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F985-8CDE-4805-B2CC-CF0440DA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4F1-CDDF-45DB-B780-BFB2D57C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09042-76DD-487E-9A22-FAE43118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7FA75-55B0-4DF8-AB7B-CBEC825E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D92B4-3AA5-4C71-815A-7825269D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F8B11-77F4-4A79-9012-05E4A3A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F6E9E-7E58-4329-BAC6-A2F93964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EE77D-9F82-4077-8305-672691FC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5C72A-098B-4F6A-BC6C-27CC439E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7E101-A661-42CE-93EF-2F741111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D8591-8A28-458A-8107-5789212E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231-FB44-4481-A30B-088E1C8D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348B-6BFE-4433-8962-0FC4378E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9D29-0DCD-431C-BCA2-0CACF14B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3D8C-8DEF-49BE-9EE1-41B845A2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AE83-05F6-44F8-8BA4-63AA18B2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A1C2-504B-42E6-8FF3-6CB5735C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0F5B-4C87-4E54-B8F9-38DC9982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3749-E974-472B-885E-21FD73C2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1B7A-AEE6-4F37-A764-C2333EC0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964-AEA6-4949-9137-9014D615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D3B7-C29D-4E05-930C-1E535308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C715-D89A-48DA-BA21-1AAADA99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635C-094B-41FC-8D74-9E2BCED5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13AC-0A5D-4D20-8E9E-95416C5B9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83AC-D5E9-4059-A096-5462650F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E142-D986-4CBF-8FC0-5B6C0CB4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1A98-375B-4E43-86E7-6FA3453E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E871-F3CF-4217-B23E-8399EE15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BFFB-F85D-4629-9350-82FDDF4D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689D-A68E-402E-9840-C53AAFC5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5DF-35CF-4B4A-86AC-9A33BB45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0592F-5387-4CC2-8534-A623F63F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A411-AACC-477A-AFD5-6969BCED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FAC5-0E79-498B-93CD-8EBE2EA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A7711-7D51-462B-8B77-CD8571F1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F5959-25AB-4E84-912E-A0B4D559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3791-02AC-4889-B26F-69553190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FF69-25FC-4D01-9FA1-1F7F8541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A580-D24A-4F0B-BF15-5589AE90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4AF1E-A8B6-4B62-830B-278E1BF6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99E1-5AEA-47F1-AA96-8E786372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A7C-E39C-4AC3-B033-E8A5ECBE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F0BA1-AEF9-45B1-8132-3D875243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B28E-B038-4A92-998A-E5ADAB73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70275-E81C-4946-9D6B-3E46353D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1252F-4AFA-4348-B7AD-153BB9AF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C956A-54A2-43F8-9555-8D56100E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75430-2EDB-4C6F-A313-A5059B7D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5C66-A22C-4166-9725-09379C10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481CD-F134-4790-80E7-453B121B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754C8-5B5E-4941-B849-906AA1F7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00D3B-3320-4C22-8135-78428F57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887-0B96-4DEF-94EE-CB20FEC4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4F4EC-CE60-4929-ACCB-C23ED5ED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84CB1-E25F-479D-BE0F-5F160574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2D32-2352-4261-9D08-2B929276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5B56D-F9FB-4651-B059-986A0197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853A6-B3D2-400F-9E87-3BBAD421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792D3-F2F9-4449-A32F-C98719D1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12CAD-4934-454C-AFFD-C02A8C24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202E8-EE71-4D91-B2D0-011099A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45C92-B94D-4D7C-86F5-520EE71B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BF380-40EB-4632-8BEF-0662FDA5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7B0-CA60-4665-8A2D-1DEDB2D3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D4CBA-A3E4-4974-8875-1D9E888F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42CE3-D7E4-426C-B4EF-188C3E35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6F4A3-1B96-45F1-8775-1D072B04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651DA-D224-4F12-8E7A-51703514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081DA-0D0C-4955-99A6-1FBEA720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D15F2-F39C-4B21-B982-60F67803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F0B6C-F307-44CC-A179-F8805618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B2D70-50AE-4E1C-AF1E-F82CD25A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771B-B339-4F07-B158-DCEEC917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3646-1F28-4AE7-A76F-9D1F3A5A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E39-5842-480C-8AAF-AC823E8F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8A2AD-DB4B-407B-9FD8-A0CA3D0B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04BB5-F48C-4AF2-9843-A25DD452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06729-174F-46BE-BC54-47C40E5D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0E470-7F79-4F5D-BBBA-FEEF93D5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168EA-80D7-46C4-AA9A-12120DA9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6DF5C-D688-4A21-9713-A2FB786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A8E71-7085-401D-85FD-CA9FBB0A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A19CD-5F50-4AB4-958C-63F4A7E9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52B62-138D-4617-8A20-CD57D9C2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9F02D-AF62-48C8-9815-1D3A385C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63F5-75E7-4D58-99B9-1457A493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61AC4-F14C-4118-93A5-CDBAFF4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9F59C-F0E4-4404-88B6-359AF389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9382F-70F5-4967-A6F5-EECCAE7C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EC0F-6293-467D-AC7A-A27EDD46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C0EB3-1DFF-463A-9064-8BBA0AD5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F59A7-B71F-4206-B9C5-19A74AF6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F9DA-7354-47C8-BD3C-77BB9111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D3649-B986-409B-B0A9-B5007E70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61454-1DEC-4C3E-BD1D-A64D5A45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5E0A4-078F-42AD-9B6B-58131FFB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8083-E33B-426D-A3EF-6AF16F95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E01B7-0A08-45D6-9E9D-478B670E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C6DC2-761F-4D53-AC17-7DFE66FC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0F850-9068-4C25-9692-61E7DDB0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33809-E994-4D2D-B1BF-C6437903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8C2E2-D04D-4E8C-BF6D-F2E735B5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F13ED-0A75-4840-8990-18EB3D11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AAFFD-2F9E-40FC-A16E-0C274A19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6344D-6BC8-4FEB-9253-38B6066C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3D035-E854-470D-AFCE-C36EB993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AD4EF-F9FA-4FAF-A33F-9F5D8E8D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DBF8-F334-4875-9B5A-F4318B726A1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A6FF-10F8-4EB8-A376-C8E75B5BF92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E653-9175-4D6E-BDC5-4A4042008C7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F031-18BF-4D0F-B673-76D51BB6EEF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2A26-0CB4-41B3-BE6E-BB2A8827E92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356-41BA-44D5-ABD6-54EAE428C73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63FB-D36F-4CE7-921E-97EF08172EB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C3FE-9AA6-44C3-8126-67424560634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95EA-B67F-4628-A18A-242BB251D6C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Structure and Principles </a:t>
            </a:r>
            <a:r>
              <a:rPr b="0" i="1" lang="en-US" sz="2400" spc="-1" strike="noStrike">
                <a:solidFill>
                  <a:srgbClr val="443329"/>
                </a:solidFill>
                <a:latin typeface="Franklin Gothic Book"/>
              </a:rPr>
              <a:t>Chapter 3 Section 1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xecutive Branch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eparation of Power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ederalis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Action Button: Home 3"/>
          <p:cNvSpPr/>
          <p:nvPr/>
        </p:nvSpPr>
        <p:spPr>
          <a:xfrm>
            <a:off x="7162920" y="48006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11518" y="3837"/>
                </a:moveTo>
                <a:lnTo>
                  <a:pt x="14094" y="6448"/>
                </a:ln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lnTo>
                  <a:pt x="18480" y="10800"/>
                </a:lnTo>
                <a:lnTo>
                  <a:pt x="16827" y="10800"/>
                </a:lnTo>
                <a:lnTo>
                  <a:pt x="16827" y="17989"/>
                </a:lnTo>
                <a:lnTo>
                  <a:pt x="6208" y="17989"/>
                </a:lnTo>
                <a:lnTo>
                  <a:pt x="6208" y="10800"/>
                </a:lnTo>
                <a:lnTo>
                  <a:pt x="4555" y="10800"/>
                </a:lnTo>
                <a:close/>
              </a:path>
              <a:path fill="darkenLess" w="23035" h="21600">
                <a:moveTo>
                  <a:pt x="14094" y="6448"/>
                </a:move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close/>
              </a:path>
              <a:path fill="darkenLess" w="23035" h="21600">
                <a:moveTo>
                  <a:pt x="10595" y="14299"/>
                </a:moveTo>
                <a:lnTo>
                  <a:pt x="12440" y="14299"/>
                </a:lnTo>
                <a:lnTo>
                  <a:pt x="12440" y="17989"/>
                </a:lnTo>
                <a:lnTo>
                  <a:pt x="16827" y="17989"/>
                </a:lnTo>
                <a:lnTo>
                  <a:pt x="16827" y="10800"/>
                </a:lnTo>
                <a:lnTo>
                  <a:pt x="6208" y="10800"/>
                </a:lnTo>
                <a:lnTo>
                  <a:pt x="6208" y="17989"/>
                </a:lnTo>
                <a:lnTo>
                  <a:pt x="10595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ederalis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Limited Governmen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Judicial Review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Action Button: Home 3"/>
          <p:cNvSpPr/>
          <p:nvPr/>
        </p:nvSpPr>
        <p:spPr>
          <a:xfrm>
            <a:off x="7315200" y="4876920"/>
            <a:ext cx="1066680" cy="1143000"/>
          </a:xfrm>
          <a:custGeom>
            <a:avLst/>
            <a:gdLst>
              <a:gd name="textAreaLeft" fmla="*/ 69120 w 1066680"/>
              <a:gd name="textAreaRight" fmla="*/ 997560 w 106668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10800" y="4610"/>
                </a:moveTo>
                <a:lnTo>
                  <a:pt x="13376" y="7221"/>
                </a:lnTo>
                <a:lnTo>
                  <a:pt x="13376" y="5480"/>
                </a:lnTo>
                <a:lnTo>
                  <a:pt x="15152" y="5480"/>
                </a:lnTo>
                <a:lnTo>
                  <a:pt x="15152" y="8996"/>
                </a:lnTo>
                <a:lnTo>
                  <a:pt x="17763" y="11572"/>
                </a:lnTo>
                <a:lnTo>
                  <a:pt x="16109" y="11572"/>
                </a:lnTo>
                <a:lnTo>
                  <a:pt x="16109" y="18762"/>
                </a:lnTo>
                <a:lnTo>
                  <a:pt x="5491" y="18762"/>
                </a:lnTo>
                <a:lnTo>
                  <a:pt x="5491" y="11572"/>
                </a:lnTo>
                <a:lnTo>
                  <a:pt x="3837" y="11572"/>
                </a:lnTo>
                <a:close/>
              </a:path>
              <a:path fill="darkenLess" w="21600" h="23145">
                <a:moveTo>
                  <a:pt x="13376" y="7221"/>
                </a:moveTo>
                <a:lnTo>
                  <a:pt x="13376" y="5480"/>
                </a:lnTo>
                <a:lnTo>
                  <a:pt x="15152" y="5480"/>
                </a:lnTo>
                <a:lnTo>
                  <a:pt x="15152" y="8996"/>
                </a:lnTo>
                <a:close/>
              </a:path>
              <a:path fill="darkenLess" w="21600" h="23145">
                <a:moveTo>
                  <a:pt x="9877" y="15071"/>
                </a:moveTo>
                <a:lnTo>
                  <a:pt x="11723" y="15071"/>
                </a:lnTo>
                <a:lnTo>
                  <a:pt x="11723" y="18762"/>
                </a:lnTo>
                <a:lnTo>
                  <a:pt x="16109" y="18762"/>
                </a:lnTo>
                <a:lnTo>
                  <a:pt x="16109" y="11572"/>
                </a:lnTo>
                <a:lnTo>
                  <a:pt x="5491" y="11572"/>
                </a:lnTo>
                <a:lnTo>
                  <a:pt x="5491" y="18762"/>
                </a:lnTo>
                <a:lnTo>
                  <a:pt x="9877" y="18762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943840" cy="11527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Executive Branch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Legislative Branch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Judicial Branch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hecks and Balance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Action Button: Home 3"/>
          <p:cNvSpPr/>
          <p:nvPr/>
        </p:nvSpPr>
        <p:spPr>
          <a:xfrm>
            <a:off x="6629400" y="464832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12600" y="3837"/>
                </a:moveTo>
                <a:lnTo>
                  <a:pt x="15176" y="6448"/>
                </a:lnTo>
                <a:lnTo>
                  <a:pt x="15176" y="4707"/>
                </a:lnTo>
                <a:lnTo>
                  <a:pt x="16951" y="4707"/>
                </a:lnTo>
                <a:lnTo>
                  <a:pt x="16951" y="8224"/>
                </a:lnTo>
                <a:lnTo>
                  <a:pt x="19562" y="10800"/>
                </a:lnTo>
                <a:lnTo>
                  <a:pt x="17909" y="10800"/>
                </a:lnTo>
                <a:lnTo>
                  <a:pt x="17909" y="17989"/>
                </a:lnTo>
                <a:lnTo>
                  <a:pt x="7290" y="17989"/>
                </a:lnTo>
                <a:lnTo>
                  <a:pt x="7290" y="10800"/>
                </a:lnTo>
                <a:lnTo>
                  <a:pt x="5637" y="10800"/>
                </a:lnTo>
                <a:close/>
              </a:path>
              <a:path fill="darkenLess" w="25199" h="21600">
                <a:moveTo>
                  <a:pt x="15176" y="6448"/>
                </a:moveTo>
                <a:lnTo>
                  <a:pt x="15176" y="4707"/>
                </a:lnTo>
                <a:lnTo>
                  <a:pt x="16951" y="4707"/>
                </a:lnTo>
                <a:lnTo>
                  <a:pt x="16951" y="8224"/>
                </a:lnTo>
                <a:close/>
              </a:path>
              <a:path fill="darkenLess" w="25199" h="21600">
                <a:moveTo>
                  <a:pt x="11677" y="14299"/>
                </a:moveTo>
                <a:lnTo>
                  <a:pt x="13522" y="14299"/>
                </a:lnTo>
                <a:lnTo>
                  <a:pt x="13522" y="17989"/>
                </a:lnTo>
                <a:lnTo>
                  <a:pt x="17909" y="17989"/>
                </a:lnTo>
                <a:lnTo>
                  <a:pt x="17909" y="10800"/>
                </a:lnTo>
                <a:lnTo>
                  <a:pt x="7290" y="10800"/>
                </a:lnTo>
                <a:lnTo>
                  <a:pt x="7290" y="17989"/>
                </a:lnTo>
                <a:lnTo>
                  <a:pt x="11677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Checks and Balance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Judicial Review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Executive Branch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Action Button: Home 3"/>
          <p:cNvSpPr/>
          <p:nvPr/>
        </p:nvSpPr>
        <p:spPr>
          <a:xfrm>
            <a:off x="68580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Executive Branch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Federalism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Limited Government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1001"/>
              </a:spcBef>
              <a:buClr>
                <a:srgbClr val="f0a22e"/>
              </a:buClr>
              <a:buSzPct val="70000"/>
              <a:buFont typeface="Franklin Gothic Boo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Judicial Review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Action Button: Home 3"/>
          <p:cNvSpPr/>
          <p:nvPr/>
        </p:nvSpPr>
        <p:spPr>
          <a:xfrm>
            <a:off x="7010280" y="518148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eamb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mendm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tates the reason and goals of the Constitu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o form a more perfect Union, establish Justice, insure domestic Tranquility, provide for the common defense, promote the general Welfare, and secure the Blessings of Liberty to ourselves and our posterity.”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1 establishes the legislative branch and it’s rules of oper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2 creates and defines the executive branch (to carry out laws made by the legislative branch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rticle 3 establishes the Supreme Court, or judicial branch of gover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anges to the Constitu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Constitution has been amended 27 times throughout the nation’s history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first 10 amendments are known as the Bill of Right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opular Sovereignty – rule by the peop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ederalism – power shared between Federal and State governmen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paration of Powers – the three branches of government created in the articles each have responsibilities to keep any one branch from having too much pow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cks and Balances – each branch of government exercises some control over the oth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udicial Review – the Court decides whether or not laws are constitution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imited Government – the Constitution limits the actions of gover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Structure and Princip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Chapter 3, Section 1 QUIZ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imited Gover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ecutive Bran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egislative Bran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udicial Revie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paration of Pow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ederalis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cks and Balance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opular Sovereign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12:05:06Z</dcterms:created>
  <dc:creator>Jan</dc:creator>
  <dc:description/>
  <dc:language>en-US</dc:language>
  <cp:lastModifiedBy>Jan</cp:lastModifiedBy>
  <dcterms:modified xsi:type="dcterms:W3CDTF">2010-07-19T13:07:38Z</dcterms:modified>
  <cp:revision>5</cp:revision>
  <dc:subject/>
  <dc:title>The American Constitution</dc:title>
</cp:coreProperties>
</file>